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33A-993B-4131-B98B-87D32439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EB3-D179-4C2C-93E1-02930C2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68F-094F-4A49-A5A2-4E38E174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3AB-9A65-4B69-8F6D-3644BCEE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229-5BB7-4134-8E2A-D52C889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1AD-A826-4405-AA8F-2B6B6FD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813-1E2E-4121-8B14-E0217ED9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BFF-C692-4331-9E5A-C1058EF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880-1747-445E-9752-A6195C54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3D5-2D61-4A74-BF7F-409C3DB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8D8-33D1-4EA1-85D8-1CD786A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584-87FC-40C9-B745-17988C7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8B09-FC4E-41B3-98F2-C1F6DD06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urpleflowers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production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lowering Plan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33520" y="838080"/>
            <a:ext cx="7924680" cy="3020040"/>
            <a:chOff x="533520" y="838080"/>
            <a:chExt cx="7924680" cy="3020040"/>
          </a:xfrm>
        </p:grpSpPr>
        <p:grpSp>
          <p:nvGrpSpPr>
            <p:cNvPr id="103" name=""/>
            <p:cNvGrpSpPr/>
            <p:nvPr/>
          </p:nvGrpSpPr>
          <p:grpSpPr>
            <a:xfrm>
              <a:off x="533520" y="838080"/>
              <a:ext cx="7543800" cy="2379960"/>
              <a:chOff x="533520" y="838080"/>
              <a:chExt cx="7543800" cy="237996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514600"/>
                <a:ext cx="5867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tigma of </a:t>
                </a:r>
                <a:r>
                  <a:rPr b="0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another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plan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1676520"/>
                <a:ext cx="662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one flower is transferred to t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520" y="838080"/>
                <a:ext cx="75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2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cross pollination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the pollen of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3000" y="32767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(offspring will be genetically differen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ouble Fertilizati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4343400"/>
            <a:ext cx="7467480" cy="1465560"/>
            <a:chOff x="1371600" y="4343400"/>
            <a:chExt cx="7467480" cy="1465560"/>
          </a:xfrm>
        </p:grpSpPr>
        <p:sp>
          <p:nvSpPr>
            <p:cNvPr id="110" name=""/>
            <p:cNvSpPr/>
            <p:nvPr/>
          </p:nvSpPr>
          <p:spPr>
            <a:xfrm>
              <a:off x="1981080" y="5105520"/>
              <a:ext cx="632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form the zygote </a:t>
              </a:r>
              <a:r>
                <a:rPr b="0" lang="en-US" sz="35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(aka: the </a:t>
              </a:r>
              <a:r>
                <a:rPr b="1" lang="en-US" sz="35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eed</a:t>
              </a:r>
              <a:r>
                <a:rPr b="0" lang="en-US" sz="35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434340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one sperm fuses with the egg 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3505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 each pollen grain has two sp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3520" y="1447920"/>
            <a:ext cx="8839080" cy="2075040"/>
            <a:chOff x="533520" y="1447920"/>
            <a:chExt cx="8839080" cy="2075040"/>
          </a:xfrm>
        </p:grpSpPr>
        <p:sp>
          <p:nvSpPr>
            <p:cNvPr id="114" name=""/>
            <p:cNvSpPr/>
            <p:nvPr/>
          </p:nvSpPr>
          <p:spPr>
            <a:xfrm>
              <a:off x="1143000" y="2819520"/>
              <a:ext cx="609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e ovar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213372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stigma, it grows down the style 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1447920"/>
              <a:ext cx="883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1.  when the pollen lands on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ouble Fertilizati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2362320"/>
            <a:ext cx="8381880" cy="2303640"/>
            <a:chOff x="457200" y="2362320"/>
            <a:chExt cx="8381880" cy="2303640"/>
          </a:xfrm>
        </p:grpSpPr>
        <p:sp>
          <p:nvSpPr>
            <p:cNvPr id="119" name=""/>
            <p:cNvSpPr/>
            <p:nvPr/>
          </p:nvSpPr>
          <p:spPr>
            <a:xfrm>
              <a:off x="990360" y="396252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(a source of  nutrition for the zygote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6680" y="312444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rest of the ovary to form the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frui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2362320"/>
              <a:ext cx="78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the other sperm fuses with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ispersal of Seed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95280" y="5029200"/>
            <a:ext cx="7010280" cy="1630440"/>
            <a:chOff x="1295280" y="5029200"/>
            <a:chExt cx="7010280" cy="1630440"/>
          </a:xfrm>
        </p:grpSpPr>
        <p:sp>
          <p:nvSpPr>
            <p:cNvPr id="124" name=""/>
            <p:cNvSpPr/>
            <p:nvPr/>
          </p:nvSpPr>
          <p:spPr>
            <a:xfrm>
              <a:off x="1981080" y="571500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ot diges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5029200"/>
              <a:ext cx="70102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fruit is eaten but the seeds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9320" y="4267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.  stick to their 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5053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43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 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876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105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.  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filament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– holds up the an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3276720"/>
            <a:ext cx="7391160" cy="1541520"/>
            <a:chOff x="990720" y="3276720"/>
            <a:chExt cx="7391160" cy="1541520"/>
          </a:xfrm>
        </p:grpSpPr>
        <p:sp>
          <p:nvSpPr>
            <p:cNvPr id="48" name=""/>
            <p:cNvSpPr/>
            <p:nvPr/>
          </p:nvSpPr>
          <p:spPr>
            <a:xfrm>
              <a:off x="1828800" y="4114800"/>
              <a:ext cx="58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contains pollen (sperm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90720" y="3276720"/>
              <a:ext cx="739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anther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part of the flower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04920" y="21337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 Male parts of a flower (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tamen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4343400"/>
            <a:ext cx="6934320" cy="1465560"/>
            <a:chOff x="1143000" y="4343400"/>
            <a:chExt cx="6934320" cy="1465560"/>
          </a:xfrm>
        </p:grpSpPr>
        <p:sp>
          <p:nvSpPr>
            <p:cNvPr id="53" name=""/>
            <p:cNvSpPr/>
            <p:nvPr/>
          </p:nvSpPr>
          <p:spPr>
            <a:xfrm>
              <a:off x="1828800" y="51055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e pollen travels dow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4343400"/>
              <a:ext cx="693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tyle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tube through whi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066680" y="2819520"/>
            <a:ext cx="6248520" cy="1389240"/>
            <a:chOff x="1066680" y="2819520"/>
            <a:chExt cx="6248520" cy="1389240"/>
          </a:xfrm>
        </p:grpSpPr>
        <p:sp>
          <p:nvSpPr>
            <p:cNvPr id="56" name=""/>
            <p:cNvSpPr/>
            <p:nvPr/>
          </p:nvSpPr>
          <p:spPr>
            <a:xfrm>
              <a:off x="1905120" y="3505320"/>
              <a:ext cx="541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receives the poll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281952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tigma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sticky tip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33520" y="1828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Female parts of a flower (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istil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133720"/>
            <a:ext cx="8153640" cy="2151000"/>
            <a:chOff x="609480" y="2133720"/>
            <a:chExt cx="8153640" cy="2151000"/>
          </a:xfrm>
        </p:grpSpPr>
        <p:grpSp>
          <p:nvGrpSpPr>
            <p:cNvPr id="61" name=""/>
            <p:cNvGrpSpPr/>
            <p:nvPr/>
          </p:nvGrpSpPr>
          <p:grpSpPr>
            <a:xfrm>
              <a:off x="609480" y="2133720"/>
              <a:ext cx="8153640" cy="1981080"/>
              <a:chOff x="609480" y="2133720"/>
              <a:chExt cx="8153640" cy="19810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1600" y="3657600"/>
                <a:ext cx="3657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95280" y="2895480"/>
                <a:ext cx="746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ntains eggs; eggs are located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9480" y="2133720"/>
                <a:ext cx="75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ovary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part of the flower tha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1295280" y="35812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</a:rPr>
                <a:t>ovules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ecomes a frui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19320" y="4191120"/>
            <a:ext cx="7086600" cy="2075040"/>
            <a:chOff x="1219320" y="4191120"/>
            <a:chExt cx="7086600" cy="2075040"/>
          </a:xfrm>
        </p:grpSpPr>
        <p:sp>
          <p:nvSpPr>
            <p:cNvPr id="68" name=""/>
            <p:cNvSpPr/>
            <p:nvPr/>
          </p:nvSpPr>
          <p:spPr>
            <a:xfrm>
              <a:off x="1905120" y="5562720"/>
              <a:ext cx="39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still a bu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5120" y="487692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protects the flower while it 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419112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epals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green structure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19320" y="2743200"/>
            <a:ext cx="7162560" cy="1465560"/>
            <a:chOff x="1219320" y="2743200"/>
            <a:chExt cx="7162560" cy="1465560"/>
          </a:xfrm>
        </p:grpSpPr>
        <p:sp>
          <p:nvSpPr>
            <p:cNvPr id="72" name=""/>
            <p:cNvSpPr/>
            <p:nvPr/>
          </p:nvSpPr>
          <p:spPr>
            <a:xfrm>
              <a:off x="1981080" y="3505320"/>
              <a:ext cx="62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at attract birds and insec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2743200"/>
              <a:ext cx="716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petals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attractive structur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80880" y="1905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 Non-gender parts of a fl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2860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stam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an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fila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28600"/>
            <a:ext cx="403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Times New Roman"/>
              </a:rPr>
              <a:t>Male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17524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8098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sty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o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4876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ov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Times New Roman"/>
              </a:rPr>
              <a:t>Female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0384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pisti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61722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sep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4382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pet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228600"/>
            <a:ext cx="525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00"/>
                </a:solidFill>
                <a:latin typeface="Times New Roman"/>
              </a:rPr>
              <a:t>Non-Gender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09480" y="762120"/>
            <a:ext cx="7696440" cy="2759040"/>
            <a:chOff x="609480" y="762120"/>
            <a:chExt cx="7696440" cy="2759040"/>
          </a:xfrm>
        </p:grpSpPr>
        <p:sp>
          <p:nvSpPr>
            <p:cNvPr id="92" name=""/>
            <p:cNvSpPr/>
            <p:nvPr/>
          </p:nvSpPr>
          <p:spPr>
            <a:xfrm>
              <a:off x="914400" y="2819520"/>
              <a:ext cx="5715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57400"/>
              <a:ext cx="670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371600"/>
              <a:ext cx="647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from the anther to the stig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762120"/>
              <a:ext cx="769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Pollination: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 the transfer of poll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43000" y="2819520"/>
            <a:ext cx="7772400" cy="3278520"/>
            <a:chOff x="1143000" y="2819520"/>
            <a:chExt cx="7772400" cy="3278520"/>
          </a:xfrm>
        </p:grpSpPr>
        <p:grpSp>
          <p:nvGrpSpPr>
            <p:cNvPr id="97" name=""/>
            <p:cNvGrpSpPr/>
            <p:nvPr/>
          </p:nvGrpSpPr>
          <p:grpSpPr>
            <a:xfrm>
              <a:off x="1143000" y="2819520"/>
              <a:ext cx="7772400" cy="2151000"/>
              <a:chOff x="1143000" y="2819520"/>
              <a:chExt cx="7772400" cy="2151000"/>
            </a:xfrm>
          </p:grpSpPr>
          <p:sp>
            <p:nvSpPr>
              <p:cNvPr id="98" name=""/>
              <p:cNvSpPr/>
              <p:nvPr/>
            </p:nvSpPr>
            <p:spPr>
              <a:xfrm>
                <a:off x="1676520" y="4267080"/>
                <a:ext cx="723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tigma of the same flower or plan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76520" y="3505320"/>
                <a:ext cx="6705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one flower is transferred to t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3000" y="2819520"/>
                <a:ext cx="762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1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self-pollination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the pollen of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676520" y="5029200"/>
              <a:ext cx="65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(offspring will be genetically identical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0:40:06Z</dcterms:created>
  <dc:creator>PlanoISD</dc:creator>
  <dc:description/>
  <dc:language>en-US</dc:language>
  <cp:lastModifiedBy>Plano ISD</cp:lastModifiedBy>
  <dcterms:modified xsi:type="dcterms:W3CDTF">2005-02-24T15:00:16Z</dcterms:modified>
  <cp:revision>20</cp:revision>
  <dc:subject/>
  <dc:title>PowerPoint Presentation</dc:title>
</cp:coreProperties>
</file>